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447B-6E85-4591-8228-7376D41B7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EAE3-B1E5-48FB-AE6F-6053A135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9D3B-DDAB-4640-921E-37AD47B1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2C3B-D6D1-4427-BE39-95256DA8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2464-F9D7-47CE-8542-28E9E892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A2C2-C169-47AD-84C5-3FE1D37D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19DD-EDB8-41B8-92E2-B500DF62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3E68-15A5-4536-8FED-57E68B0A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E031-4671-440C-ADAA-371470B7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D282-D760-426F-B4E1-53AD963F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A2A9-10B2-4B5C-AABA-83A31140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B9C8-6D8A-42ED-BA21-75B2A086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C2B6-5200-405B-A843-8E56FC28D9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840" y="2057400"/>
            <a:ext cx="827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ternal vs. Externa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Validit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696080" cy="5715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419720" y="2209680"/>
            <a:ext cx="36576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3886200"/>
            <a:ext cx="23623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4343400"/>
            <a:ext cx="27432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696080" cy="5715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419720" y="3429000"/>
            <a:ext cx="32004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57800" y="3886200"/>
            <a:ext cx="23623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38680" y="4343400"/>
            <a:ext cx="27432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696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467480" cy="2743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90720" y="3124080"/>
            <a:ext cx="74674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620120" cy="2286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3048120"/>
            <a:ext cx="76201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8001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32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38080" y="4038480"/>
            <a:ext cx="754380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3657600"/>
            <a:ext cx="7543800" cy="2793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7543800" cy="2209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838080" y="2666880"/>
            <a:ext cx="754380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543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7239240" cy="3886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66680" y="838080"/>
            <a:ext cx="72392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315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486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72520" y="105552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a41"/>
                </a:solidFill>
                <a:latin typeface="Arial"/>
              </a:rPr>
              <a:t>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8483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1T15:41:26Z</dcterms:modified>
  <cp:revision>211</cp:revision>
  <dc:subject/>
  <dc:title>Slide 1</dc:title>
</cp:coreProperties>
</file>